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902-CCB2-4C22-9DE8-641FF0CB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BC4-F965-4132-B768-BD3BAEF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A0E-DD73-40A1-A8A6-3399B59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6B4-102E-40CE-A1A5-61A126DE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927-979E-447A-8CE1-4F2CAB22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768-AAE8-47BF-8074-846934E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226-83BA-452C-A4F5-F57BC28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857-843F-49A8-8794-486F8C9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F50-D1E8-4411-B60C-066A1D1F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C4A-76BF-468F-8DDE-5A744DE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01C-73D5-43F9-A244-3BB061C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A59-9B2F-403D-9B45-DE899D1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sianlawcaucus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5684-E255-465B-AB06-75426F04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Asian Law Cauc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n Francisco Distric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uns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ed Choice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eci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3 Total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8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343400" y="1904760"/>
            <a:ext cx="4419360" cy="4724280"/>
            <a:chOff x="4343400" y="1904760"/>
            <a:chExt cx="4419360" cy="47242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13724" t="9091" r="21570" b="4545"/>
            <a:stretch/>
          </p:blipFill>
          <p:spPr>
            <a:xfrm rot="16200000">
              <a:off x="4190760" y="2057040"/>
              <a:ext cx="4724280" cy="441936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6359040" y="4124160"/>
              <a:ext cx="387360" cy="429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67400" y="2907000"/>
              <a:ext cx="387360" cy="429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85920" y="5197680"/>
              <a:ext cx="387720" cy="429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16160" y="4839480"/>
              <a:ext cx="387720" cy="429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91600" y="4839480"/>
              <a:ext cx="387360" cy="429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73640" y="4338720"/>
              <a:ext cx="387360" cy="4294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ians Found Rank Choice Voting Helpfu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2227320"/>
          <a:ext cx="94806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27320"/>
                    <a:ext cx="94806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ians Use RCV Properl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38080" y="1752480"/>
          <a:ext cx="739008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39008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ct 4 Supervisor R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4120" y="2286000"/>
          <a:ext cx="2211120" cy="4114800"/>
        </p:xfrm>
        <a:graphic>
          <a:graphicData uri="http://schemas.openxmlformats.org/drawingml/2006/table">
            <a:tbl>
              <a:tblPr/>
              <a:tblGrid>
                <a:gridCol w="1411200"/>
                <a:gridCol w="79992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n Vo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n Du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J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nry M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g C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ton Zhe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 Fergu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6606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n voters favored Ed Jew 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ns spread votes evenly among other top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ct 4 Supervisor R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sians voters favor Dudum slightly over 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sian voters spread votes between Asian and non-Asian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29360" y="2362320"/>
          <a:ext cx="2238120" cy="4114800"/>
        </p:xfrm>
        <a:graphic>
          <a:graphicData uri="http://schemas.openxmlformats.org/drawingml/2006/table">
            <a:tbl>
              <a:tblPr/>
              <a:tblGrid>
                <a:gridCol w="1476360"/>
                <a:gridCol w="761760"/>
              </a:tblGrid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sian Vo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n Du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J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nry M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g C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ton Zhe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 Fergu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ct 4 Supervisor R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ns who voted for Mak or  Chan as their first candidate voted, unlikely to vote for Mak or Chan as second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V “punishes” candidates for negative campaig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419720" y="2849400"/>
          <a:ext cx="4419360" cy="2789280"/>
        </p:xfrm>
        <a:graphic>
          <a:graphicData uri="http://schemas.openxmlformats.org/drawingml/2006/table">
            <a:tbl>
              <a:tblPr/>
              <a:tblGrid>
                <a:gridCol w="865080"/>
                <a:gridCol w="865080"/>
                <a:gridCol w="865440"/>
                <a:gridCol w="865080"/>
                <a:gridCol w="95868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Ch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 (Je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 (Ma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 (Ch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ud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ct 4 Supervisor R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ampaigning drives Mak and Chan supporters to vote overwhelmingly for Jew as seco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igh Asian voter turnout, Jew will likely win District 4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419720" y="2849400"/>
          <a:ext cx="4419360" cy="2789280"/>
        </p:xfrm>
        <a:graphic>
          <a:graphicData uri="http://schemas.openxmlformats.org/drawingml/2006/table">
            <a:tbl>
              <a:tblPr/>
              <a:tblGrid>
                <a:gridCol w="865080"/>
                <a:gridCol w="865080"/>
                <a:gridCol w="865440"/>
                <a:gridCol w="865080"/>
                <a:gridCol w="95868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Ch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 (Je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 (Ma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 (Ch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Ch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ud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23:08:40Z</dcterms:created>
  <dc:creator>malcolmy</dc:creator>
  <dc:description/>
  <dc:language>en-US</dc:language>
  <cp:lastModifiedBy>catl</cp:lastModifiedBy>
  <dcterms:modified xsi:type="dcterms:W3CDTF">2006-11-09T21:49:05Z</dcterms:modified>
  <cp:revision>23</cp:revision>
  <dc:subject/>
  <dc:title>Exit Poll 2006</dc:title>
</cp:coreProperties>
</file>